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53E-0D8F-459C-8EDF-7CFFBA63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B01-5280-4053-A766-264370FF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B7A-D8B3-4FBE-A3E8-A364DE0E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A0C-A17F-442E-A22F-7ABC26FE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2C6-70EC-464F-912B-1B437BB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755-F152-4BB6-A591-ABE41031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E1B-9356-4765-A420-D4DD54F0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499-9567-4D79-B17A-6ADFAF9E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1E5-B3BA-4267-BF0A-F9848A6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EBD-4006-43A1-AF7C-E8C8ECA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9F3-297F-4F8D-A1CC-88DEE8BD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DBE-30AE-4AFB-88E9-7B2A4D5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172-C5ED-49B2-BE79-DD8C6D1F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5105520" cy="5029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aple-leaf-border-v"/>
          <p:cNvPicPr/>
          <p:nvPr/>
        </p:nvPicPr>
        <p:blipFill>
          <a:blip r:embed="rId2"/>
          <a:stretch/>
        </p:blipFill>
        <p:spPr>
          <a:xfrm>
            <a:off x="0" y="0"/>
            <a:ext cx="7524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maple-leaf-border-v"/>
          <p:cNvPicPr/>
          <p:nvPr/>
        </p:nvPicPr>
        <p:blipFill>
          <a:blip r:embed="rId3"/>
          <a:stretch/>
        </p:blipFill>
        <p:spPr>
          <a:xfrm>
            <a:off x="8391600" y="0"/>
            <a:ext cx="75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05120" y="609480"/>
            <a:ext cx="609588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IETENI ÎN ORICE ANOTIMP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580200" y="5272560"/>
            <a:ext cx="331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Toamnă, toamnă darnic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rietena noastră  </a:t>
            </a: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au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Ai venit din nou la no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Te primim cu bucur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Toamna cea de roade plină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 A copt fructele-n grădină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:</a:t>
            </a:r>
            <a:br>
              <a:rPr sz="1800"/>
            </a:b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Struguri aurii  în vii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Prune mari şi brumări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,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Pere galbene, zemoase,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58128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3657600" cy="518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maple-leaf-border-v"/>
          <p:cNvPicPr/>
          <p:nvPr/>
        </p:nvPicPr>
        <p:blipFill>
          <a:blip r:embed="rId4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aple-leaf-border-v"/>
          <p:cNvPicPr/>
          <p:nvPr/>
        </p:nvPicPr>
        <p:blipFill>
          <a:blip r:embed="rId5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029200" cy="435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4114800" cy="226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maple-leaf-border-v"/>
          <p:cNvPicPr/>
          <p:nvPr/>
        </p:nvPicPr>
        <p:blipFill>
          <a:blip r:embed="rId4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3981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Mere rumene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 frumoase,</a:t>
            </a:r>
            <a:br>
              <a:rPr sz="1800"/>
            </a:b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În „Cutia cu vitamine” le vo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 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pu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După gustare, tare-s bun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Suntem cu toţii „mere” rumene-n obraji,</a:t>
            </a:r>
            <a:br>
              <a:rPr sz="2000"/>
            </a:b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 Sănătoşi şi mereu voioş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126200" y="3886200"/>
            <a:ext cx="20178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00600" y="388620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aple-leaf-border-v"/>
          <p:cNvPicPr/>
          <p:nvPr/>
        </p:nvPicPr>
        <p:blipFill>
          <a:blip r:embed="rId6"/>
          <a:stretch/>
        </p:blipFill>
        <p:spPr>
          <a:xfrm>
            <a:off x="3809880" y="1523880"/>
            <a:ext cx="914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Toamna avem şi colegi pe care-i sărbătorim! Prieteni cu toţii,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l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e spunem din suflet </a:t>
            </a:r>
            <a:br>
              <a:rPr sz="2000"/>
            </a:b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„La mulţi ani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358128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33991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3581280" cy="234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3733920"/>
            <a:ext cx="3400560" cy="266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aple-leaf-border-v"/>
          <p:cNvPicPr/>
          <p:nvPr/>
        </p:nvPicPr>
        <p:blipFill>
          <a:blip r:embed="rId5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maple-leaf-border-v"/>
          <p:cNvPicPr/>
          <p:nvPr/>
        </p:nvPicPr>
        <p:blipFill>
          <a:blip r:embed="rId6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maple-leaf-border-v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0000"/>
                </a:solidFill>
                <a:latin typeface="Arial"/>
              </a:rPr>
              <a:t>PĂLĂRIILE TOAMN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72428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295280"/>
            <a:ext cx="4419720" cy="449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maple-leaf-border-v"/>
          <p:cNvPicPr/>
          <p:nvPr/>
        </p:nvPicPr>
        <p:blipFill>
          <a:blip r:embed="rId4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Cinstea, toleranţa, politeţea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ac mai mult ca frumuseţea!</a:t>
            </a:r>
            <a:br>
              <a:rPr sz="1800"/>
            </a:b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Să fim mereu prietenoşi, buni şi cinstiţi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d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acă vrem să fim iubiţi!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ă ne purtăm frumos, să fim ca nişte fra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!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Haideţi, cu toţii,  s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fi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toleran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276360" cy="548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aple-leaf-border-v"/>
          <p:cNvPicPr/>
          <p:nvPr/>
        </p:nvPicPr>
        <p:blipFill>
          <a:blip r:embed="rId4"/>
          <a:stretch/>
        </p:blipFill>
        <p:spPr>
          <a:xfrm>
            <a:off x="3886200" y="1447920"/>
            <a:ext cx="1066680" cy="541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aple-leaf-border-v"/>
          <p:cNvPicPr/>
          <p:nvPr/>
        </p:nvPicPr>
        <p:blipFill>
          <a:blip r:embed="rId5"/>
          <a:stretch/>
        </p:blipFill>
        <p:spPr>
          <a:xfrm>
            <a:off x="822960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maple-leaf-border-v"/>
          <p:cNvPicPr/>
          <p:nvPr/>
        </p:nvPicPr>
        <p:blipFill>
          <a:blip r:embed="rId6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23:32Z</dcterms:created>
  <dc:creator>user</dc:creator>
  <dc:description/>
  <dc:language>en-US</dc:language>
  <cp:lastModifiedBy>user</cp:lastModifiedBy>
  <dcterms:modified xsi:type="dcterms:W3CDTF">2011-11-20T15:07:25Z</dcterms:modified>
  <cp:revision>9</cp:revision>
  <dc:subject/>
  <dc:title>Diapozitivul 1</dc:title>
</cp:coreProperties>
</file>